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2E2-C2F7-4EA7-B0C4-65EF3180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82E-3650-4FA7-AEDE-3CB9C4A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AA8-D956-4785-95DF-87F7601F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CC5-6928-48AC-8D08-61968949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4ED-BB8E-479F-BCB6-E3C393E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3A3-3716-4FE2-8BEA-6521A173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817-EA78-462D-9886-CA5443F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414-8069-4F89-AF84-906AC11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43E-F9E8-4E43-B507-AAB627A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5BD-EDFA-4FB0-B018-CB534A9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13B-B45B-4B88-8AD5-DC2B655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5E3-4854-4008-903B-2A2D581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0E44-ECB4-40A6-BE64-BFC766F87BF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ight Arrow 4"/>
          <p:cNvSpPr/>
          <p:nvPr/>
        </p:nvSpPr>
        <p:spPr>
          <a:xfrm>
            <a:off x="1428840" y="321480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4"/>
          <p:cNvSpPr/>
          <p:nvPr/>
        </p:nvSpPr>
        <p:spPr>
          <a:xfrm>
            <a:off x="500040" y="321480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4"/>
          <p:cNvSpPr/>
          <p:nvPr/>
        </p:nvSpPr>
        <p:spPr>
          <a:xfrm>
            <a:off x="1143000" y="328608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Down Arrow 4"/>
          <p:cNvSpPr/>
          <p:nvPr/>
        </p:nvSpPr>
        <p:spPr>
          <a:xfrm>
            <a:off x="5286240" y="2357280"/>
            <a:ext cx="1143000" cy="15004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285920" y="3929040"/>
            <a:ext cx="12859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Up Arrow 2"/>
          <p:cNvSpPr/>
          <p:nvPr/>
        </p:nvSpPr>
        <p:spPr>
          <a:xfrm>
            <a:off x="7643880" y="1357200"/>
            <a:ext cx="1000080" cy="1000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071960" y="1000080"/>
            <a:ext cx="128592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Up Arrow 2"/>
          <p:cNvSpPr/>
          <p:nvPr/>
        </p:nvSpPr>
        <p:spPr>
          <a:xfrm>
            <a:off x="7929720" y="2357280"/>
            <a:ext cx="857160" cy="14288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571680" y="1785960"/>
            <a:ext cx="357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3429000" y="3429000"/>
            <a:ext cx="42876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>
            <a:off x="2000160" y="4357800"/>
            <a:ext cx="357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7"/>
          <p:cNvSpPr/>
          <p:nvPr/>
        </p:nvSpPr>
        <p:spPr>
          <a:xfrm>
            <a:off x="2928960" y="442908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8"/>
          <p:cNvSpPr/>
          <p:nvPr/>
        </p:nvSpPr>
        <p:spPr>
          <a:xfrm>
            <a:off x="2714760" y="4572000"/>
            <a:ext cx="428400" cy="46080"/>
          </a:xfrm>
          <a:prstGeom prst="right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9"/>
          <p:cNvSpPr/>
          <p:nvPr/>
        </p:nvSpPr>
        <p:spPr>
          <a:xfrm>
            <a:off x="3143160" y="5286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214880" y="1000080"/>
            <a:ext cx="11430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24:20Z</dcterms:created>
  <dc:creator>YRDSB</dc:creator>
  <dc:description/>
  <dc:language>en-US</dc:language>
  <cp:lastModifiedBy>YRDSB</cp:lastModifiedBy>
  <dcterms:modified xsi:type="dcterms:W3CDTF">2010-10-25T20:11:39Z</dcterms:modified>
  <cp:revision>4</cp:revision>
  <dc:subject/>
  <dc:title>Slide 1</dc:title>
</cp:coreProperties>
</file>